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8DE-AF51-40A6-B18C-C00C66A2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775-C2DB-4D71-85AE-A08E1F06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47C-00B2-44D7-AE1C-1596CAD0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8C1-0094-47D9-9C5D-C97AEAE5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558-8361-455F-9BAC-12A60A72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69E-ECF9-42A0-9420-13917A0D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C04-7FFB-4995-91E6-09348571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958-BDDF-410A-AA59-04291D05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123-D60C-4230-9C65-D0DB52E3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691-5099-4DCA-AE6D-CC89831E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34A-E5D3-4D12-A085-286C161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D58-2CE1-4797-9F73-33565238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9252-6D0C-4B6A-802C-28B1B8AC90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371600"/>
            <a:ext cx="914400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E 363 Design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l Choudhary, Eyad Lababidi, Kate Vance, Matt Bock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gain Differential 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5720" cy="4622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 A/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ive Vr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Array Nbits then 2^N Compa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85629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ority Enco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bits to 4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but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Conver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ive ladder and summing amplif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600200" y="2168640"/>
            <a:ext cx="5791320" cy="447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Content Placeholder 3" descr="ArbDemo.png"/>
          <p:cNvPicPr/>
          <p:nvPr/>
        </p:nvPicPr>
        <p:blipFill>
          <a:blip r:embed="rId1"/>
          <a:stretch/>
        </p:blipFill>
        <p:spPr>
          <a:xfrm>
            <a:off x="1066680" y="1600200"/>
            <a:ext cx="705348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511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r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A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457200" y="1949400"/>
            <a:ext cx="8229600" cy="382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ide A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7246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and Inno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:8 Decoder and t-gate vs muxing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s power and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logic for worst case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chester adder with inverted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z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d to minimize WC delay, rest minim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 registers sized up to drive 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:8 Decoder sized up to drive all t-g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/SU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used logic of ADDER + XOR&lt;0:15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-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or and Carry in&lt;0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chester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st case is carrying through propagate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&lt;0…00&gt;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0..001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&lt;0…00&gt;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1…11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/SUB Optom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buffers every 4 in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larger inverters as buf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 carry chain to deal with inversion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T-gates larger for less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bitrary Fu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 to digital and digital to analog con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ignals must be digit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 and non-static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4:59:39Z</dcterms:created>
  <dc:creator>Matthew Bocknek</dc:creator>
  <dc:description/>
  <dc:language>en-US</dc:language>
  <cp:lastModifiedBy>N</cp:lastModifiedBy>
  <dcterms:modified xsi:type="dcterms:W3CDTF">2008-04-29T15:49:02Z</dcterms:modified>
  <cp:revision>25</cp:revision>
  <dc:subject/>
  <dc:title>Arbitrary Function</dc:title>
</cp:coreProperties>
</file>